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BD3-BBA8-47C4-883F-4CDEDF22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B1B-2C0C-4903-A89B-7BA5302F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6F9-EB47-4EE1-8789-3F09E134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E06-C5E2-4784-8548-96E501F0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39A-E704-4BD5-AE89-B057BD38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A48-FDFE-4E20-8AEE-BED35640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16A-230B-4227-981B-EAF051FC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7B5-A395-4546-AA32-40A9C6C8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5CC-8D65-4F43-AE5C-CA20E1A2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CCF-0B86-483F-9A73-69B0083A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5FB-83D9-47F8-8A95-7BB058CB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83B-4897-401E-8070-DC92A5D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1C92-3974-4D60-98D0-6531BD72E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2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og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563868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3962520"/>
            <a:ext cx="5943600" cy="2481480"/>
          </a:xfrm>
          <a:prstGeom prst="rect">
            <a:avLst/>
          </a:prstGeom>
          <a:solidFill>
            <a:srgbClr val="9966ff"/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My Dog Has Got No Mann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 Bruce La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strangers" descr=""/>
          <p:cNvPicPr/>
          <p:nvPr/>
        </p:nvPicPr>
        <p:blipFill>
          <a:blip r:embed="rId3"/>
          <a:stretch/>
        </p:blipFill>
        <p:spPr>
          <a:xfrm>
            <a:off x="0" y="0"/>
            <a:ext cx="9448920" cy="708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66680" y="5029200"/>
            <a:ext cx="7391520" cy="5814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’s not polite to stran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371600" y="5638680"/>
            <a:ext cx="914400" cy="12193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590920" y="5715000"/>
            <a:ext cx="990360" cy="9144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029200" y="5715000"/>
            <a:ext cx="971640" cy="97164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rear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6350040" cy="5207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0" y="3581280"/>
            <a:ext cx="3809880" cy="10688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bites them on the r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1295640" cy="129528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on%20the%20phone" descr=""/>
          <p:cNvPicPr/>
          <p:nvPr/>
        </p:nvPicPr>
        <p:blipFill>
          <a:blip r:embed="rId2"/>
          <a:stretch/>
        </p:blipFill>
        <p:spPr>
          <a:xfrm>
            <a:off x="0" y="577800"/>
            <a:ext cx="8458200" cy="6280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29200" y="838080"/>
            <a:ext cx="3809880" cy="22978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when I’m on th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barks so I can’t h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8001000" y="1371600"/>
            <a:ext cx="762120" cy="7621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7391520" y="2666880"/>
            <a:ext cx="761760" cy="7621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complain%20to%20mom" descr=""/>
          <p:cNvPicPr/>
          <p:nvPr/>
        </p:nvPicPr>
        <p:blipFill>
          <a:blip r:embed="rId2"/>
          <a:stretch/>
        </p:blipFill>
        <p:spPr>
          <a:xfrm>
            <a:off x="133200" y="838080"/>
            <a:ext cx="5276880" cy="5410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267080" y="304920"/>
            <a:ext cx="4648320" cy="37810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I complained to Mo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e said,“ I thought you kne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934320" y="990720"/>
            <a:ext cx="1066680" cy="106668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553080" y="2895480"/>
            <a:ext cx="990720" cy="9907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638680" y="990720"/>
            <a:ext cx="1047960" cy="10476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watching%20you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534520" cy="595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4800600"/>
            <a:ext cx="7620120" cy="5814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reason that his manners stink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990720" cy="99036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248520" y="5334120"/>
            <a:ext cx="1047600" cy="10476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learned%20by%20watching%20you" descr=""/>
          <p:cNvPicPr/>
          <p:nvPr/>
        </p:nvPicPr>
        <p:blipFill>
          <a:blip r:embed="rId3"/>
          <a:stretch/>
        </p:blipFill>
        <p:spPr>
          <a:xfrm>
            <a:off x="0" y="0"/>
            <a:ext cx="64548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876920" y="2895480"/>
            <a:ext cx="3809880" cy="10688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learned by watching you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257800" y="3962520"/>
            <a:ext cx="1219320" cy="121896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858000" y="3962520"/>
            <a:ext cx="1219320" cy="121896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dogmanners" descr=""/>
          <p:cNvPicPr/>
          <p:nvPr/>
        </p:nvPicPr>
        <p:blipFill>
          <a:blip r:embed="rId2"/>
          <a:stretch/>
        </p:blipFill>
        <p:spPr>
          <a:xfrm>
            <a:off x="27000" y="76320"/>
            <a:ext cx="6526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3962520"/>
            <a:ext cx="7315200" cy="28062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dog has got no ma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think he’s very r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828800" y="4572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819520" y="457200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029200" y="4495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095880" y="44956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05740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724280" y="6019920"/>
            <a:ext cx="8193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whines%20at%20dinnertime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always whines         at dinnertime          while we are eating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86200" y="5486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924680" y="55627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drink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380880"/>
            <a:ext cx="4114800" cy="22978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when he’s feeling thirs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wants to take a drin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543800" y="4572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0"/>
          <a:ext cx="583236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832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105520" y="3352680"/>
            <a:ext cx="3809880" cy="10688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takes it from the toi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15200" y="3962520"/>
            <a:ext cx="1047600" cy="104760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cat%20in%20sink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0" y="5288040"/>
            <a:ext cx="4876920" cy="10688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stead of from the s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705720" y="5410080"/>
            <a:ext cx="990360" cy="9907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dog%20with%20pants" descr=""/>
          <p:cNvPicPr/>
          <p:nvPr/>
        </p:nvPicPr>
        <p:blipFill>
          <a:blip r:embed="rId2"/>
          <a:stretch/>
        </p:blipFill>
        <p:spPr>
          <a:xfrm>
            <a:off x="0" y="0"/>
            <a:ext cx="7620120" cy="6807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24280" y="1828800"/>
            <a:ext cx="3810240" cy="10688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never wears a pair of p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43800" y="2438280"/>
            <a:ext cx="1066680" cy="106704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dog%20in%20shirt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724280" y="2514600"/>
            <a:ext cx="3810240" cy="10688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doesn’t wear a shi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72200" y="3124080"/>
            <a:ext cx="1143000" cy="11430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wash%20away%20the%20dirt" descr=""/>
          <p:cNvPicPr/>
          <p:nvPr/>
        </p:nvPicPr>
        <p:blipFill>
          <a:blip r:embed="rId2"/>
          <a:stretch/>
        </p:blipFill>
        <p:spPr>
          <a:xfrm>
            <a:off x="0" y="838080"/>
            <a:ext cx="6019920" cy="4772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876920" y="1828800"/>
            <a:ext cx="3809880" cy="22978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ut worse, he will not sh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wash away the di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238880" y="2362320"/>
            <a:ext cx="838440" cy="83808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867280" y="3581280"/>
            <a:ext cx="895320" cy="8953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3:37:21Z</dcterms:created>
  <dc:creator>Carols</dc:creator>
  <dc:description/>
  <dc:language>en-US</dc:language>
  <cp:lastModifiedBy>Carol Shockley</cp:lastModifiedBy>
  <dcterms:modified xsi:type="dcterms:W3CDTF">2003-06-25T14:56:56Z</dcterms:modified>
  <cp:revision>13</cp:revision>
  <dc:subject/>
  <dc:title>PowerPoint Presentation</dc:title>
</cp:coreProperties>
</file>